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DC57-2257-423E-9244-AF4C032906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DE9D7-892F-43C6-8976-8974D99DF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4AEFD-FB5F-43C0-A0DC-BE0648C3B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23187-911E-47F3-9DA8-19010FAA0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1475F-FA1C-42E8-915F-AE9E5764C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D3811-5622-4DC1-A3CE-EF36D6C909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8A3D1-80F6-40C9-BA1F-04FA69B75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9C8FC-2DDA-4104-B12F-506B0A75E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38EBB-1BCB-4DEB-997D-B3FEBA01F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E484E-7DBA-47CF-A405-E87D421A0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A0D44-B97F-4690-968B-DEFD2BEE3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13ED9-DF4D-4611-ABE8-7854B4EBE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1FFF8-84A5-4C86-8AF9-CA58AEB48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77972-AC95-4667-92C3-ED2CD5BF2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795ED-1993-403D-869F-6800EB6A0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0D16C-F4E0-4442-9B72-71A4BD9B1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8800CF-FEE6-4801-9D4C-671F80C65C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C79DD2-993D-43C8-BE8D-FDFC1A9B4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F13F5-54D0-4781-826D-D0D0987D9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B8D56-4D8A-4100-8374-62BEC37CC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F6E2D-4D75-4B9E-AB47-065437DA6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DD316-062E-437E-BBD5-92A9A73B1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C73EB-DB69-4C10-928C-4402FD5A6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3C8AE-127D-4DE7-82C8-E43855531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AECDD-0E56-4533-830C-DDD2197FE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7E8E-6CA2-4A13-8AD8-865C624577B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54B4-A9C7-4131-BFF2-80E16A248ECB}"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LEGION</cp:lastModifiedBy>
  <dcterms:modified xsi:type="dcterms:W3CDTF">2017-07-03T09:59:33Z</dcterms:modified>
  <cp:revision>8</cp:revision>
  <dc:subject/>
  <dc:title>What is civilization?</dc:title>
</cp:coreProperties>
</file>